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5A3-7539-4FC7-8E91-A78B1904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1EB-4425-49DB-8951-1F8BC2DB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549-50E7-4700-BA75-3736C9B5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4CA-E304-4C38-98E1-7B312590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8599-859D-4F01-BC1E-4469E95A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80FC-BF1E-4E84-86C2-03B303D0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F078-FB39-45B9-9778-BAE13E9B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A985-6BAA-44EB-B0B2-82706AC1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1ABA-16E7-416C-8820-140D0E02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65E6-D25B-42B2-927E-81A76A60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A2D-BA3E-4F64-802E-AA2068D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05E-F93E-4D43-9EA2-60705775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F3A7-8FF9-4E35-A9E8-21C78D5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0D16-91E2-4C66-894A-D2825D81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B392-E749-4460-BBD3-558A6E1A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6999-692D-4096-B40A-7181E457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DDC1-21F4-4DA0-A361-0C735F23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CDF-2672-4357-AAB9-CF1A533A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B04-61EE-483E-9331-1A37A66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28F-5086-466D-A387-B465B570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7AD-4046-4F8C-83CD-ECF2F0E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361-866A-4ECF-86AF-AE7944E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F85-EF7E-44E0-B4B2-036C3F6A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315-1BDF-4DB2-86EE-62BC2A8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8BD8-DE0B-4D70-892D-457E10FA93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717B-708A-43D8-B34B-0EA4315D15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ir, We Would See Jesus”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The Life of Christ, Part 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7391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0, Lesson 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16:12-14; Luke 24:13-43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20:24-31, John 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88-1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Seven Disciple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John 21:1-14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apostles went 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aught no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appeared on the b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uggested that they cast the net one more time to find the cat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then ate with Je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Questioned Peter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John 21:15-17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times He asked, “Simon, do you love me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responded three times, “Y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old him to go feed His sh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“Follow Me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Note:  The writer of the book reveals himself to us in 21:20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He Appears To Other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1 Cor. 15:6-7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wrote years after the resurrection  that over five hundred saw Jesus at on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f those were still alive as Paul penned the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said that Jesus appeared to James and then to all of the apos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appeared to Paul on the road to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ppearances After The First Da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048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e eleven disciples in the upper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even disciples fi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e eleven apostles on a moun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1828800"/>
            <a:ext cx="1981080" cy="45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 of Gali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li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828800"/>
            <a:ext cx="213372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ing Sun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tim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tim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ppearances After The First Da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ore than five hund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J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His disciples at His asc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1828800"/>
            <a:ext cx="1981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li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mas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828800"/>
            <a:ext cx="213372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tim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tim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y days after resu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al year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nd the Next Lesson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eat Com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altation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isciples On The Road To Emmau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 16:12-13; Luke 24:13-32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joined up with two disci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not recognize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talking about the crucifi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“hoped” Jesus would have redeemed 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ld Him what the women had repo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aught them from the Scrip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te with them, they recognized Him, and He va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Two Disciples Make A Report 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 16:12-13; Luke 24:33-35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men returned to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the eleven and others gath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ed that Peter had also seen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orted their experiences on the road and eating with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ciples still did not believe He had risen from the d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Peter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Luke 24:33-35; 1 Cor. 15:5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ying, “The Lord has really risen and has appeared to Simon.”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uke 24:3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He appeared to Cephas, then to the twel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”  (1 Cor. 15: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other information avail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His Disciple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 16:14; Luke 24:33-35; John 20:19-23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first day of the week, they were eating with the door lo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just appeared in their mid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proached them for their unbelief and hardness of heart because they had not believed those who had seen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homas was not the only “doubt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His Disciple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 16:14; Luke 24:33-35; John 20:19-23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showed them His wounds to prove that He was flesh and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te food to further prove that He was a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breathed on them and said, “Receive the Holy Spir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ommission:  “…as the Father has sent Me, I also send you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Thoma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John 20:19-23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old by the others, ”We have seen the Lor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mas said that unless I see Him, “I will not believ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the unbelief of Thomas any different than the unbelief of the oth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ppearances On The First Da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ry Magdal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he other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he two men going to Emma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imon P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en apostles and other disci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The Eleven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John 20:26-31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stles, including Thomas, were gathered on the second first day of the week after the resur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appeared again in a locked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howed Thomas the w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mas: “My Lord and my God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“Blessed are they who did not see, and yet believe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21:49:08Z</dcterms:created>
  <dc:creator>Don Vines</dc:creator>
  <dc:description/>
  <dc:language>en-US</dc:language>
  <cp:lastModifiedBy>Don Vines</cp:lastModifiedBy>
  <dcterms:modified xsi:type="dcterms:W3CDTF">2006-09-21T04:12:19Z</dcterms:modified>
  <cp:revision>17</cp:revision>
  <dc:subject/>
  <dc:title>“Sir, We Would See Jesus” The Life of Christ, Part 2</dc:title>
</cp:coreProperties>
</file>